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C04-42C2-4F6D-A648-5198D0F4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5B9-EC1B-4F9B-9F6D-693349F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2A0-FE0F-466A-A4F6-129EDCB0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052-DA76-4826-ACB4-53B9FE19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B05-3A7A-462E-8488-B85854F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089-8017-47F4-AD04-6BBA914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AC2-0365-4E98-860D-07287D30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752-7A72-47DC-A8BD-FFD26066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B14-B48D-46DE-B4D2-1D6AB70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20C-F538-47AF-A64D-D7994E9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3F0-6C4E-478D-8F67-FC4D5BF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A0A-40BC-4D3A-BB5A-3435F9C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F6F-0536-408C-8758-2423A455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38240"/>
            <a:ext cx="87631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89917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20:38:02Z</dcterms:created>
  <dc:creator>ASD</dc:creator>
  <dc:description/>
  <dc:language>en-US</dc:language>
  <cp:lastModifiedBy>ASD</cp:lastModifiedBy>
  <dcterms:modified xsi:type="dcterms:W3CDTF">2010-06-16T20:39:08Z</dcterms:modified>
  <cp:revision>1</cp:revision>
  <dc:subject/>
  <dc:title>Slide 1</dc:title>
</cp:coreProperties>
</file>